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1.wmf" ContentType="image/x-wmf"/>
  <Override PartName="/ppt/media/image9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317-1692-4885-86ED-1F21A35B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CEB7-1ED6-4197-843D-B30AC94D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28D6-3052-43D0-BE49-D108FC7B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E8F7-D596-4F60-AD71-63664451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E50-DB82-437A-A8DD-B2B52614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D51-B604-4286-AC3E-287A5420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85A-1FC9-49EE-9B42-CCAA5399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3091-03E7-4E1B-9BAD-4BCCAAD2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2FC-9FE8-4E24-A309-F80EA283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B99D-17DF-4B29-9944-282E672E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00B8-E732-4DBF-B704-CFAED576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6D50-3E34-42F3-8F55-07931B53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87D64-5C4C-4FE5-9809-A4E4D200C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828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Situación actual y perspectivas del mercado de la carne vacu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320" y="4343040"/>
            <a:ext cx="6629400" cy="18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º Congreso Nacional de Proteína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ebos y Grasas de origen an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 de diciembre de 20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rgentina: Exportaciones de Carne Vacuna (en miles de toneladas res con hues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6320" y="1295280"/>
          <a:ext cx="8991360" cy="495324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685800"/>
                <a:gridCol w="685800"/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533520"/>
                <a:gridCol w="76176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5335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úmero de terneros encontrados en otoño de cada año, según vacunación (en millones de cabezas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0" y="1617840"/>
          <a:ext cx="9144000" cy="48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17840"/>
                    <a:ext cx="9144000" cy="48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026"/>
          <p:cNvSpPr/>
          <p:nvPr/>
        </p:nvSpPr>
        <p:spPr>
          <a:xfrm>
            <a:off x="0" y="-763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xistencias de Novillos según SENASA - 2003-2015</a:t>
            </a:r>
            <a:br>
              <a:rPr sz="2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1ª Campaña de Vacunación contra la Aftosa de cada año) (En miles de cabez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6320" y="762120"/>
          <a:ext cx="8991360" cy="582444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  <a:gridCol w="838080"/>
                <a:gridCol w="1143000"/>
                <a:gridCol w="914400"/>
                <a:gridCol w="762120"/>
                <a:gridCol w="914400"/>
                <a:gridCol w="914400"/>
                <a:gridCol w="762120"/>
                <a:gridCol w="76176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os Ai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a F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rdob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Pam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 Rí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es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go. Salta Chaco Fsa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/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9" name="Text Box 1183"/>
          <p:cNvSpPr/>
          <p:nvPr/>
        </p:nvSpPr>
        <p:spPr>
          <a:xfrm>
            <a:off x="80280" y="6597720"/>
            <a:ext cx="186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uente: SENAS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rgentina: Stock ganadero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(a marzo de cada año) (En miles de cabez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280" y="1295280"/>
          <a:ext cx="8915400" cy="480708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1067040"/>
                <a:gridCol w="1218960"/>
                <a:gridCol w="1143000"/>
                <a:gridCol w="914400"/>
                <a:gridCol w="914400"/>
              </a:tblGrid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ne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nero/Va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5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8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9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6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3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4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9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6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2" name="Text Box 75"/>
          <p:cNvSpPr/>
          <p:nvPr/>
        </p:nvSpPr>
        <p:spPr>
          <a:xfrm>
            <a:off x="207000" y="6200640"/>
            <a:ext cx="370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* Proyectado. Fuen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 SENA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026"/>
          <p:cNvSpPr/>
          <p:nvPr/>
        </p:nvSpPr>
        <p:spPr>
          <a:xfrm>
            <a:off x="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rgentina: Existencias ganaderas</a:t>
            </a:r>
            <a:br>
              <a:rPr sz="3200"/>
            </a:b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(a marzo de cada año) (En miles de cabeza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6320" y="990720"/>
          <a:ext cx="8991360" cy="5425920"/>
        </p:xfrm>
        <a:graphic>
          <a:graphicData uri="http://schemas.openxmlformats.org/drawingml/2006/table">
            <a:tbl>
              <a:tblPr/>
              <a:tblGrid>
                <a:gridCol w="761760"/>
                <a:gridCol w="838440"/>
                <a:gridCol w="761760"/>
                <a:gridCol w="838440"/>
                <a:gridCol w="761760"/>
                <a:gridCol w="762120"/>
                <a:gridCol w="762120"/>
                <a:gridCol w="990360"/>
                <a:gridCol w="990720"/>
                <a:gridCol w="762120"/>
                <a:gridCol w="76176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Bue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A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Santa F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Córdo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Entre Rí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La Pam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San Lu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Salta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Santiago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Chaco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Formo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Ot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9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73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57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5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37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6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50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68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8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575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79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6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54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3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32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7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5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69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54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59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6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3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5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5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8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65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6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89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62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57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3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5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4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5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64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5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79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67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63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2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68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5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98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6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66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4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3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8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5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70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5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50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74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65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4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4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7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5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67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5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51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73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63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8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4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50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69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514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79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62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6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42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30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5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7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27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526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16/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+3,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-2,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+4,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+0,2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+8,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+8,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-1,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+2,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+5,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CY"/>
                        </a:rPr>
                        <a:t>+2,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1211"/>
          <p:cNvSpPr/>
          <p:nvPr/>
        </p:nvSpPr>
        <p:spPr>
          <a:xfrm>
            <a:off x="212760" y="6453360"/>
            <a:ext cx="28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Fuent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 SEN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_x0012_Estacionalidad.JPG                                             0008BC8F_x0006_IG OSX                         C793413D:"/>
          <p:cNvPicPr/>
          <p:nvPr/>
        </p:nvPicPr>
        <p:blipFill>
          <a:blip r:embed="rId1"/>
          <a:stretch/>
        </p:blipFill>
        <p:spPr>
          <a:xfrm>
            <a:off x="0" y="46368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Precio del ternero negro de 180 kg.</a:t>
            </a:r>
            <a:br>
              <a:rPr sz="28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(en pesos de noviembre de 2016 por kg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52280" y="1371600"/>
          <a:ext cx="8839440" cy="4876920"/>
        </p:xfrm>
        <a:graphic>
          <a:graphicData uri="http://schemas.openxmlformats.org/drawingml/2006/table">
            <a:tbl>
              <a:tblPr/>
              <a:tblGrid>
                <a:gridCol w="685800"/>
                <a:gridCol w="609840"/>
                <a:gridCol w="609480"/>
                <a:gridCol w="685800"/>
                <a:gridCol w="609480"/>
                <a:gridCol w="719280"/>
                <a:gridCol w="615960"/>
                <a:gridCol w="614160"/>
                <a:gridCol w="614520"/>
                <a:gridCol w="615960"/>
                <a:gridCol w="614520"/>
                <a:gridCol w="614160"/>
                <a:gridCol w="615960"/>
                <a:gridCol w="61452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r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39" name="Text Box 175"/>
          <p:cNvSpPr/>
          <p:nvPr/>
        </p:nvSpPr>
        <p:spPr>
          <a:xfrm>
            <a:off x="212760" y="6400800"/>
            <a:ext cx="28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ente: Informe Ganad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Resultados Económicos Ganaderos (en $ x ha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6320" y="762120"/>
          <a:ext cx="8915400" cy="5823000"/>
        </p:xfrm>
        <a:graphic>
          <a:graphicData uri="http://schemas.openxmlformats.org/drawingml/2006/table">
            <a:tbl>
              <a:tblPr/>
              <a:tblGrid>
                <a:gridCol w="1447560"/>
                <a:gridCol w="1143000"/>
                <a:gridCol w="990720"/>
                <a:gridCol w="1600200"/>
                <a:gridCol w="1143000"/>
                <a:gridCol w="990720"/>
                <a:gridCol w="16002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Ne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res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8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ltado Ne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. 2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. 2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. 2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 2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. 20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. 20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. 20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 20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. 20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. 20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. 20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 20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. 20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. 20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5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 20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. 20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. 20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7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. 20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0000"/>
                        </a:lnSpc>
                        <a:spcBef>
                          <a:spcPts val="2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Text Box 126"/>
          <p:cNvSpPr/>
          <p:nvPr/>
        </p:nvSpPr>
        <p:spPr>
          <a:xfrm>
            <a:off x="125280" y="6553080"/>
            <a:ext cx="2998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Times New Roman"/>
              </a:rPr>
              <a:t>Fuente: Ministerio de Agricultura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7"/>
          <p:cNvSpPr/>
          <p:nvPr/>
        </p:nvSpPr>
        <p:spPr>
          <a:xfrm>
            <a:off x="1523880" y="380880"/>
            <a:ext cx="3733920" cy="35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Cría Cuenca del Salad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28"/>
          <p:cNvSpPr/>
          <p:nvPr/>
        </p:nvSpPr>
        <p:spPr>
          <a:xfrm>
            <a:off x="5257800" y="380880"/>
            <a:ext cx="3733920" cy="35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000000"/>
                </a:solidFill>
                <a:latin typeface="Times New Roman"/>
              </a:rPr>
              <a:t>Ciclo Completo Centro-SO Bs. 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"/>
          <p:cNvSpPr/>
          <p:nvPr/>
        </p:nvSpPr>
        <p:spPr>
          <a:xfrm>
            <a:off x="0" y="333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ena Total por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2003-2016). En miles de cabez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Object 5"/>
          <p:cNvGraphicFramePr/>
          <p:nvPr/>
        </p:nvGraphicFramePr>
        <p:xfrm>
          <a:off x="73080" y="1387440"/>
          <a:ext cx="9070920" cy="46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0" y="1387440"/>
                    <a:ext cx="907092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76320" y="6143760"/>
          <a:ext cx="9032760" cy="380880"/>
        </p:xfrm>
        <a:graphic>
          <a:graphicData uri="http://schemas.openxmlformats.org/drawingml/2006/table">
            <a:tbl>
              <a:tblPr/>
              <a:tblGrid>
                <a:gridCol w="914400"/>
                <a:gridCol w="772920"/>
                <a:gridCol w="750960"/>
                <a:gridCol w="762120"/>
                <a:gridCol w="863640"/>
                <a:gridCol w="576000"/>
                <a:gridCol w="1074960"/>
                <a:gridCol w="652320"/>
                <a:gridCol w="1023840"/>
                <a:gridCol w="849600"/>
                <a:gridCol w="7920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.16/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6,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,3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Porcentaje de hembras en la faena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320" y="457200"/>
          <a:ext cx="8915400" cy="6095880"/>
        </p:xfrm>
        <a:graphic>
          <a:graphicData uri="http://schemas.openxmlformats.org/drawingml/2006/table">
            <a:tbl>
              <a:tblPr/>
              <a:tblGrid>
                <a:gridCol w="636480"/>
                <a:gridCol w="636480"/>
                <a:gridCol w="636840"/>
                <a:gridCol w="637920"/>
                <a:gridCol w="636840"/>
                <a:gridCol w="636480"/>
                <a:gridCol w="636480"/>
                <a:gridCol w="636480"/>
                <a:gridCol w="636840"/>
                <a:gridCol w="636480"/>
                <a:gridCol w="638280"/>
                <a:gridCol w="636480"/>
                <a:gridCol w="636480"/>
                <a:gridCol w="6368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510"/>
          <p:cNvSpPr/>
          <p:nvPr/>
        </p:nvSpPr>
        <p:spPr>
          <a:xfrm>
            <a:off x="83520" y="6553080"/>
            <a:ext cx="48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Fuente: ONCCA y a partir de diciembre 2008 IPC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rgentina: Producción de carne vacuna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(en kg por habitan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3"/>
          <p:cNvGraphicFramePr/>
          <p:nvPr/>
        </p:nvGraphicFramePr>
        <p:xfrm>
          <a:off x="152280" y="1371600"/>
          <a:ext cx="883944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371600"/>
                    <a:ext cx="883944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6"/>
          <p:cNvSpPr/>
          <p:nvPr/>
        </p:nvSpPr>
        <p:spPr>
          <a:xfrm>
            <a:off x="992160" y="137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906560" y="2590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897280" y="312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735360" y="3200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649760" y="312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5564160" y="3352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6402240" y="3352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1068480" y="3962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198288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2897280" y="4114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3735360" y="4267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4649760" y="4267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5487840" y="434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6402240" y="4267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1068480" y="2438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1982880" y="312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2973600" y="3581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3811320" y="3657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4"/>
          <p:cNvSpPr/>
          <p:nvPr/>
        </p:nvSpPr>
        <p:spPr>
          <a:xfrm>
            <a:off x="4726080" y="3657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5"/>
          <p:cNvSpPr/>
          <p:nvPr/>
        </p:nvSpPr>
        <p:spPr>
          <a:xfrm>
            <a:off x="5640120" y="373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6"/>
          <p:cNvSpPr/>
          <p:nvPr/>
        </p:nvSpPr>
        <p:spPr>
          <a:xfrm>
            <a:off x="6478560" y="380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6320" y="6045120"/>
          <a:ext cx="7010280" cy="584280"/>
        </p:xfrm>
        <a:graphic>
          <a:graphicData uri="http://schemas.openxmlformats.org/drawingml/2006/table">
            <a:tbl>
              <a:tblPr/>
              <a:tblGrid>
                <a:gridCol w="838080"/>
                <a:gridCol w="914400"/>
                <a:gridCol w="838080"/>
                <a:gridCol w="838440"/>
                <a:gridCol w="914400"/>
                <a:gridCol w="914400"/>
                <a:gridCol w="838080"/>
                <a:gridCol w="91440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54"/>
          <p:cNvSpPr/>
          <p:nvPr/>
        </p:nvSpPr>
        <p:spPr>
          <a:xfrm>
            <a:off x="7240680" y="434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5"/>
          <p:cNvSpPr/>
          <p:nvPr/>
        </p:nvSpPr>
        <p:spPr>
          <a:xfrm>
            <a:off x="7316640" y="380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6"/>
          <p:cNvSpPr/>
          <p:nvPr/>
        </p:nvSpPr>
        <p:spPr>
          <a:xfrm>
            <a:off x="7240680" y="3429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086600" y="6045120"/>
          <a:ext cx="838080" cy="5842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72" name="Text Box 54"/>
          <p:cNvSpPr/>
          <p:nvPr/>
        </p:nvSpPr>
        <p:spPr>
          <a:xfrm>
            <a:off x="8078760" y="4343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5"/>
          <p:cNvSpPr/>
          <p:nvPr/>
        </p:nvSpPr>
        <p:spPr>
          <a:xfrm>
            <a:off x="8154720" y="3809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6"/>
          <p:cNvSpPr/>
          <p:nvPr/>
        </p:nvSpPr>
        <p:spPr>
          <a:xfrm>
            <a:off x="8078760" y="3352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85800" y="895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Faena de Carne Vacuna ONCCA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(en miles de cabeza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87480" y="2325600"/>
          <a:ext cx="8969040" cy="340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" y="2325600"/>
                    <a:ext cx="896904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04920" y="7621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Producción de Carne Vacuna ONCCA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(en miles de toneladas peso carcasa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149400" y="2090880"/>
          <a:ext cx="8921520" cy="32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" y="2090880"/>
                    <a:ext cx="8921520" cy="32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98"/>
          <p:cNvSpPr/>
          <p:nvPr/>
        </p:nvSpPr>
        <p:spPr>
          <a:xfrm>
            <a:off x="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Relación de Compra/Venta</a:t>
            </a:r>
            <a:br>
              <a:rPr sz="2800"/>
            </a:b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(Ternero Invernada 180 kg/Novillito Liniers 350-390 kg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2280" y="1447920"/>
          <a:ext cx="8839440" cy="5257800"/>
        </p:xfrm>
        <a:graphic>
          <a:graphicData uri="http://schemas.openxmlformats.org/drawingml/2006/table">
            <a:tbl>
              <a:tblPr/>
              <a:tblGrid>
                <a:gridCol w="838440"/>
                <a:gridCol w="685800"/>
                <a:gridCol w="609480"/>
                <a:gridCol w="685800"/>
                <a:gridCol w="609480"/>
                <a:gridCol w="685800"/>
                <a:gridCol w="609840"/>
                <a:gridCol w="609480"/>
                <a:gridCol w="685800"/>
                <a:gridCol w="609480"/>
                <a:gridCol w="685800"/>
                <a:gridCol w="762120"/>
                <a:gridCol w="762120"/>
              </a:tblGrid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_x000c_Ingresos.jpg                                                   00000002_x0006_IG OSX                         C793413D:"/>
          <p:cNvPicPr/>
          <p:nvPr/>
        </p:nvPicPr>
        <p:blipFill>
          <a:blip r:embed="rId1"/>
          <a:stretch/>
        </p:blipFill>
        <p:spPr>
          <a:xfrm>
            <a:off x="0" y="754200"/>
            <a:ext cx="9144000" cy="53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_x000b_Egresos.jpg                                                    00000002_x0006_IG OSX                         C793413D:"/>
          <p:cNvPicPr/>
          <p:nvPr/>
        </p:nvPicPr>
        <p:blipFill>
          <a:blip r:embed="rId1"/>
          <a:stretch/>
        </p:blipFill>
        <p:spPr>
          <a:xfrm>
            <a:off x="0" y="720720"/>
            <a:ext cx="9144000" cy="54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26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Bovinos vacunados contra la Aftosa.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imera Campaña Anual (en miles de cab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76320" y="1143000"/>
          <a:ext cx="8915400" cy="5373720"/>
        </p:xfrm>
        <a:graphic>
          <a:graphicData uri="http://schemas.openxmlformats.org/drawingml/2006/table">
            <a:tbl>
              <a:tblPr/>
              <a:tblGrid>
                <a:gridCol w="761760"/>
                <a:gridCol w="914400"/>
                <a:gridCol w="990720"/>
                <a:gridCol w="1066680"/>
                <a:gridCol w="1219320"/>
                <a:gridCol w="990720"/>
                <a:gridCol w="990360"/>
                <a:gridCol w="838440"/>
                <a:gridCol w="1143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n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neros/Va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quillo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il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illi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abe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2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4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7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2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8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2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3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9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4" name="Text Box 1149"/>
          <p:cNvSpPr/>
          <p:nvPr/>
        </p:nvSpPr>
        <p:spPr>
          <a:xfrm>
            <a:off x="74520" y="6553080"/>
            <a:ext cx="26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Fuente: SENASA. * Estimad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3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Aumento del precio de los Insumos, del valor del novillo, del IPC y del Tipo de cambio. 2005 = 100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Object 14"/>
          <p:cNvGraphicFramePr/>
          <p:nvPr/>
        </p:nvGraphicFramePr>
        <p:xfrm>
          <a:off x="0" y="1600200"/>
          <a:ext cx="9144000" cy="48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8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04920" y="5867280"/>
          <a:ext cx="8381880" cy="51768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21"/>
          <p:cNvSpPr/>
          <p:nvPr/>
        </p:nvSpPr>
        <p:spPr>
          <a:xfrm>
            <a:off x="7773480" y="228600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v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2"/>
          <p:cNvSpPr/>
          <p:nvPr/>
        </p:nvSpPr>
        <p:spPr>
          <a:xfrm>
            <a:off x="7164360" y="18288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su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7850880" y="274320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7543800" y="38098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ip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5"/>
          <p:cNvSpPr/>
          <p:nvPr/>
        </p:nvSpPr>
        <p:spPr>
          <a:xfrm>
            <a:off x="0" y="684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Precio del novillo en Mercosur, EE.UU., U.E. y Australia (en u$s por kg en ganch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38"/>
          <p:cNvGraphicFramePr/>
          <p:nvPr/>
        </p:nvGraphicFramePr>
        <p:xfrm>
          <a:off x="228600" y="1060560"/>
          <a:ext cx="8686800" cy="57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0560"/>
                    <a:ext cx="868680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39"/>
          <p:cNvSpPr/>
          <p:nvPr/>
        </p:nvSpPr>
        <p:spPr>
          <a:xfrm>
            <a:off x="3430080" y="614844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ctub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0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0" y="152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Población mundial (En millones de habitant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0"/>
          <p:cNvGraphicFramePr/>
          <p:nvPr/>
        </p:nvGraphicFramePr>
        <p:xfrm>
          <a:off x="152280" y="1066680"/>
          <a:ext cx="8839440" cy="46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39440" cy="46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0" y="5638680"/>
          <a:ext cx="7543800" cy="1036800"/>
        </p:xfrm>
        <a:graphic>
          <a:graphicData uri="http://schemas.openxmlformats.org/drawingml/2006/table">
            <a:tbl>
              <a:tblPr/>
              <a:tblGrid>
                <a:gridCol w="1066680"/>
                <a:gridCol w="609840"/>
                <a:gridCol w="685800"/>
                <a:gridCol w="685800"/>
                <a:gridCol w="609480"/>
                <a:gridCol w="609480"/>
                <a:gridCol w="685800"/>
                <a:gridCol w="609840"/>
                <a:gridCol w="685800"/>
                <a:gridCol w="685800"/>
                <a:gridCol w="6094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c. Pob. Mundial,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c. Pob. Urbana,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181" name="Oval 63"/>
          <p:cNvSpPr/>
          <p:nvPr/>
        </p:nvSpPr>
        <p:spPr>
          <a:xfrm>
            <a:off x="1066680" y="5181480"/>
            <a:ext cx="609840" cy="3812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64"/>
          <p:cNvSpPr/>
          <p:nvPr/>
        </p:nvSpPr>
        <p:spPr>
          <a:xfrm>
            <a:off x="1676520" y="5181480"/>
            <a:ext cx="685800" cy="3812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65"/>
          <p:cNvSpPr/>
          <p:nvPr/>
        </p:nvSpPr>
        <p:spPr>
          <a:xfrm>
            <a:off x="2362320" y="5181480"/>
            <a:ext cx="609480" cy="3812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66"/>
          <p:cNvSpPr/>
          <p:nvPr/>
        </p:nvSpPr>
        <p:spPr>
          <a:xfrm>
            <a:off x="2971800" y="5181480"/>
            <a:ext cx="685800" cy="3812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67"/>
          <p:cNvSpPr/>
          <p:nvPr/>
        </p:nvSpPr>
        <p:spPr>
          <a:xfrm>
            <a:off x="3657600" y="5181480"/>
            <a:ext cx="609480" cy="3812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68"/>
          <p:cNvSpPr/>
          <p:nvPr/>
        </p:nvSpPr>
        <p:spPr>
          <a:xfrm>
            <a:off x="4267080" y="5181480"/>
            <a:ext cx="685800" cy="3812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69"/>
          <p:cNvSpPr/>
          <p:nvPr/>
        </p:nvSpPr>
        <p:spPr>
          <a:xfrm>
            <a:off x="4952880" y="5181480"/>
            <a:ext cx="609840" cy="3812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71"/>
          <p:cNvSpPr/>
          <p:nvPr/>
        </p:nvSpPr>
        <p:spPr>
          <a:xfrm>
            <a:off x="5562720" y="5181480"/>
            <a:ext cx="609480" cy="3812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72"/>
          <p:cNvSpPr/>
          <p:nvPr/>
        </p:nvSpPr>
        <p:spPr>
          <a:xfrm>
            <a:off x="6172200" y="5181480"/>
            <a:ext cx="685800" cy="3812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73"/>
          <p:cNvSpPr/>
          <p:nvPr/>
        </p:nvSpPr>
        <p:spPr>
          <a:xfrm>
            <a:off x="6858000" y="5181480"/>
            <a:ext cx="685800" cy="3812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73"/>
          <p:cNvSpPr/>
          <p:nvPr/>
        </p:nvSpPr>
        <p:spPr>
          <a:xfrm>
            <a:off x="7543800" y="5181480"/>
            <a:ext cx="609480" cy="3812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73"/>
          <p:cNvSpPr/>
          <p:nvPr/>
        </p:nvSpPr>
        <p:spPr>
          <a:xfrm>
            <a:off x="8153280" y="5181480"/>
            <a:ext cx="685800" cy="38124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228600"/>
            <a:ext cx="9144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PBI per cápita mundi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(En dólares a precios actual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Object 0"/>
          <p:cNvGraphicFramePr/>
          <p:nvPr/>
        </p:nvGraphicFramePr>
        <p:xfrm>
          <a:off x="152280" y="1417680"/>
          <a:ext cx="883944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17680"/>
                    <a:ext cx="883944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Oval 4"/>
          <p:cNvSpPr/>
          <p:nvPr/>
        </p:nvSpPr>
        <p:spPr>
          <a:xfrm>
            <a:off x="1143000" y="5532480"/>
            <a:ext cx="685800" cy="3808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5"/>
          <p:cNvSpPr/>
          <p:nvPr/>
        </p:nvSpPr>
        <p:spPr>
          <a:xfrm>
            <a:off x="1828800" y="5532480"/>
            <a:ext cx="609480" cy="3808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2438280" y="5532480"/>
            <a:ext cx="685800" cy="3808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3124080" y="5532480"/>
            <a:ext cx="609840" cy="3808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3733920" y="5532480"/>
            <a:ext cx="609480" cy="3808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4343400" y="5532480"/>
            <a:ext cx="685800" cy="3808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029200" y="5532480"/>
            <a:ext cx="609480" cy="3808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5638680" y="5532480"/>
            <a:ext cx="609840" cy="3808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6248520" y="5532480"/>
            <a:ext cx="685800" cy="3808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6934320" y="5532480"/>
            <a:ext cx="609480" cy="38088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9"/>
          <p:cNvSpPr/>
          <p:nvPr/>
        </p:nvSpPr>
        <p:spPr>
          <a:xfrm>
            <a:off x="229320" y="6232680"/>
            <a:ext cx="33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ente: Banco Mund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13"/>
          <p:cNvSpPr/>
          <p:nvPr/>
        </p:nvSpPr>
        <p:spPr>
          <a:xfrm>
            <a:off x="7543800" y="5486400"/>
            <a:ext cx="609480" cy="4572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13"/>
          <p:cNvSpPr/>
          <p:nvPr/>
        </p:nvSpPr>
        <p:spPr>
          <a:xfrm>
            <a:off x="8153280" y="5486400"/>
            <a:ext cx="685800" cy="457200"/>
          </a:xfrm>
          <a:prstGeom prst="ellipse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rgentina: Producción de carne vacuna y población humana (2005-2016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3"/>
          <p:cNvGraphicFramePr/>
          <p:nvPr/>
        </p:nvGraphicFramePr>
        <p:xfrm>
          <a:off x="0" y="1617840"/>
          <a:ext cx="9144000" cy="48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17840"/>
                    <a:ext cx="9144000" cy="48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4"/>
          <p:cNvSpPr/>
          <p:nvPr/>
        </p:nvSpPr>
        <p:spPr>
          <a:xfrm>
            <a:off x="74520" y="1285920"/>
            <a:ext cx="10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miles de t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8074800" y="1295280"/>
            <a:ext cx="11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b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illones h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0" y="365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dice Bloomberg v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recio internacional de la carne vacu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2" descr="_x000f_Bloomberg 2.jpg                                                0008D296_x0006_IG OSX                         C793413D: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3"/>
          <p:cNvSpPr/>
          <p:nvPr/>
        </p:nvSpPr>
        <p:spPr>
          <a:xfrm>
            <a:off x="5319720" y="1355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5700600" y="3260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8427960" y="1295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6"/>
          <p:cNvSpPr/>
          <p:nvPr/>
        </p:nvSpPr>
        <p:spPr>
          <a:xfrm>
            <a:off x="8686440" y="601992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7"/>
          <p:cNvSpPr/>
          <p:nvPr/>
        </p:nvSpPr>
        <p:spPr>
          <a:xfrm flipV="1">
            <a:off x="8686800" y="4647960"/>
            <a:ext cx="380880" cy="22860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8757360" y="437508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8763120" y="1981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8611920" y="24526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8991720" y="23623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2"/>
          <p:cNvSpPr/>
          <p:nvPr/>
        </p:nvSpPr>
        <p:spPr>
          <a:xfrm>
            <a:off x="8155080" y="19051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ercado Internacional de la carne vacuna - 201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304920" y="1219320"/>
            <a:ext cx="8839080" cy="54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bilidad del volumen comercializado (9,6 millones de T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ída del 10-15% en el precio de la carne vac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fectos negativos del fortalecimiento del dó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valuación generalizada de países exportadores e importa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ores términos de intercambio de países petroleros y exportadores de materias pri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an dependencia de Chi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ecuperación del liderazgo de Bras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recimiento fuerte de la producción de carne de pez, cerdo y pollo. Estabilidad en la producción vacu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uge del comercio de ganado en p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341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000000"/>
                </a:solidFill>
                <a:latin typeface="Times New Roman"/>
              </a:rPr>
              <a:t>Mercado Internacional de la carne vacuna</a:t>
            </a: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iles de toneladas peso 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0" y="1484280"/>
          <a:ext cx="9144000" cy="484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48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/>
          <p:cNvSpPr/>
          <p:nvPr/>
        </p:nvSpPr>
        <p:spPr>
          <a:xfrm>
            <a:off x="0" y="4572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000000"/>
                </a:solidFill>
                <a:latin typeface="Times New Roman"/>
              </a:rPr>
              <a:t>Mercado Internacional de la carne vacuna -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iles de millones de dó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Object 1024"/>
          <p:cNvGraphicFramePr/>
          <p:nvPr/>
        </p:nvGraphicFramePr>
        <p:xfrm>
          <a:off x="0" y="1658880"/>
          <a:ext cx="906768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58880"/>
                    <a:ext cx="906768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ortalezas Urugu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85800" y="1066680"/>
            <a:ext cx="80773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- Gran cantidad de mercados abiert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- Excelente status sanitar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- Trazabilid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- Sólido mercado inter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- Carne a pasto y a grano. Desarrollo del feedlo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- Instituciones fuer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- Razas británicas de car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- Industria frigorífica moder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- Exportación de ganado abier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- Confiabilidad como proveed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- Volumen limitado a exporta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- Desastre argenti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- Buenas estadísti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37"/>
          <p:cNvSpPr/>
          <p:nvPr/>
        </p:nvSpPr>
        <p:spPr>
          <a:xfrm>
            <a:off x="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Uruguay: Ingreso promedio mensual de exportación por tonelada/peso carca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76320" y="1371600"/>
          <a:ext cx="8991360" cy="4991040"/>
        </p:xfrm>
        <a:graphic>
          <a:graphicData uri="http://schemas.openxmlformats.org/drawingml/2006/table">
            <a:tbl>
              <a:tblPr/>
              <a:tblGrid>
                <a:gridCol w="838080"/>
                <a:gridCol w="838080"/>
                <a:gridCol w="762120"/>
                <a:gridCol w="838080"/>
                <a:gridCol w="838440"/>
                <a:gridCol w="838080"/>
                <a:gridCol w="838080"/>
                <a:gridCol w="838440"/>
                <a:gridCol w="838080"/>
                <a:gridCol w="762120"/>
                <a:gridCol w="76176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8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9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3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6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3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6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2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7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5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9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3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z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9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5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6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6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8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2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5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i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3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9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8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4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6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3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7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7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7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7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5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6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2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9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6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9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2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7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5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i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9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4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8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6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5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9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3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o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8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2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8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4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4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8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8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4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4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8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3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9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5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2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3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2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9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16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6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6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8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7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5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5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3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c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5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6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1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4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6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9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2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5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2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5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6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9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8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38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Mercado Mundial de Carne Vacuna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(en miles de toneladas peso res) 20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6320" y="1219320"/>
          <a:ext cx="4343400" cy="4116240"/>
        </p:xfrm>
        <a:graphic>
          <a:graphicData uri="http://schemas.openxmlformats.org/drawingml/2006/table">
            <a:tbl>
              <a:tblPr/>
              <a:tblGrid>
                <a:gridCol w="3504960"/>
                <a:gridCol w="838440"/>
              </a:tblGrid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ACION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, H. Kong, Vietnam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s Unido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6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ón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i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e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ón Europea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ipt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á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l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572000" y="1219320"/>
          <a:ext cx="4495680" cy="4929120"/>
        </p:xfrm>
        <a:graphic>
          <a:graphicData uri="http://schemas.openxmlformats.org/drawingml/2006/table">
            <a:tbl>
              <a:tblPr/>
              <a:tblGrid>
                <a:gridCol w="2819520"/>
                <a:gridCol w="16761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ACIONE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si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s Unid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 Zeland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ad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gua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ugua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xic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genti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85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36" name="Text Box 221"/>
          <p:cNvSpPr/>
          <p:nvPr/>
        </p:nvSpPr>
        <p:spPr>
          <a:xfrm>
            <a:off x="0" y="6324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otal: 9.633.000 Tonel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900" spc="-1" strike="noStrike">
                <a:solidFill>
                  <a:srgbClr val="000000"/>
                </a:solidFill>
                <a:latin typeface="Times New Roman"/>
              </a:rPr>
              <a:t>Ocho grandes oportunidades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304920" y="1295280"/>
            <a:ext cx="8839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umplimiento de la cuota Hilton (7700 T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uota 481 de la U.E. de Carne de Feedlot (48000 Tn a reparti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uota Americana (20.000 T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rcado chi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rcado extra-Hilton U.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ercado de Rusia para enfri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ras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cuerdo UE-Mercos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Gasto per cápita en carne vacuna, porcina y aviar,</a:t>
            </a:r>
            <a:br>
              <a:rPr sz="2900"/>
            </a:b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2016 (en $ por habitante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3"/>
          <p:cNvGraphicFramePr/>
          <p:nvPr/>
        </p:nvGraphicFramePr>
        <p:xfrm>
          <a:off x="0" y="1295280"/>
          <a:ext cx="9144000" cy="48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0" y="6197760"/>
          <a:ext cx="8991720" cy="583920"/>
        </p:xfrm>
        <a:graphic>
          <a:graphicData uri="http://schemas.openxmlformats.org/drawingml/2006/table">
            <a:tbl>
              <a:tblPr/>
              <a:tblGrid>
                <a:gridCol w="990720"/>
                <a:gridCol w="2590560"/>
                <a:gridCol w="2743200"/>
                <a:gridCol w="26672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s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%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%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2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%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85800" y="1522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Gasto en carne vacuna.</a:t>
            </a:r>
            <a:br>
              <a:rPr sz="4400"/>
            </a:b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(Por habitante y por año)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 $ de mayo de 201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0" y="1865160"/>
          <a:ext cx="9144000" cy="484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65160"/>
                    <a:ext cx="914400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Argentina: Consumo de carne per cápita (2005-2016) en K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152280" y="1676520"/>
          <a:ext cx="8763120" cy="46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676520"/>
                    <a:ext cx="8763120" cy="46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4"/>
          <p:cNvSpPr/>
          <p:nvPr/>
        </p:nvSpPr>
        <p:spPr>
          <a:xfrm>
            <a:off x="5412240" y="205740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1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583080" y="243828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7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754280" y="243828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4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80880" y="1828800"/>
          <a:ext cx="762120" cy="3809880"/>
        </p:xfrm>
        <a:graphic>
          <a:graphicData uri="http://schemas.openxmlformats.org/drawingml/2006/table">
            <a:tbl>
              <a:tblPr/>
              <a:tblGrid>
                <a:gridCol w="762120"/>
              </a:tblGrid>
              <a:tr h="380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752480" y="3809880"/>
          <a:ext cx="838440" cy="14479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630600" y="4038480"/>
          <a:ext cx="838080" cy="12193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5486400" y="3809880"/>
          <a:ext cx="838080" cy="1447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752480" y="3276720"/>
          <a:ext cx="838440" cy="53316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630600" y="3200400"/>
          <a:ext cx="838080" cy="8380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486400" y="2819520"/>
          <a:ext cx="838080" cy="99036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752480" y="3094200"/>
          <a:ext cx="838440" cy="182520"/>
        </p:xfrm>
        <a:graphic>
          <a:graphicData uri="http://schemas.openxmlformats.org/drawingml/2006/table">
            <a:tbl>
              <a:tblPr/>
              <a:tblGrid>
                <a:gridCol w="838440"/>
              </a:tblGrid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630600" y="3017880"/>
          <a:ext cx="838080" cy="1825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18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486400" y="2514600"/>
          <a:ext cx="838080" cy="3049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98"/>
          <p:cNvSpPr/>
          <p:nvPr/>
        </p:nvSpPr>
        <p:spPr>
          <a:xfrm>
            <a:off x="2077920" y="3016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9"/>
          <p:cNvSpPr/>
          <p:nvPr/>
        </p:nvSpPr>
        <p:spPr>
          <a:xfrm>
            <a:off x="3955680" y="2940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00"/>
          <p:cNvSpPr/>
          <p:nvPr/>
        </p:nvSpPr>
        <p:spPr>
          <a:xfrm>
            <a:off x="5709600" y="252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1"/>
          <p:cNvSpPr/>
          <p:nvPr/>
        </p:nvSpPr>
        <p:spPr>
          <a:xfrm>
            <a:off x="7317000" y="213372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6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391520" y="4038480"/>
          <a:ext cx="838080" cy="121932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7391520" y="2971800"/>
          <a:ext cx="838080" cy="10666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7391520" y="2590920"/>
          <a:ext cx="838080" cy="380880"/>
        </p:xfrm>
        <a:graphic>
          <a:graphicData uri="http://schemas.openxmlformats.org/drawingml/2006/table">
            <a:tbl>
              <a:tblPr/>
              <a:tblGrid>
                <a:gridCol w="83808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10" name="Text Box 120"/>
          <p:cNvSpPr/>
          <p:nvPr/>
        </p:nvSpPr>
        <p:spPr>
          <a:xfrm>
            <a:off x="7614720" y="2590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Precio del Novillito (350-400 kg) en Liniers.</a:t>
            </a:r>
            <a:br>
              <a:rPr sz="3000"/>
            </a:br>
            <a:r>
              <a:rPr b="1" lang="es-ES_tradnl" sz="3000" spc="-1" strike="noStrike">
                <a:solidFill>
                  <a:srgbClr val="000000"/>
                </a:solidFill>
                <a:latin typeface="Arial"/>
                <a:ea typeface="Arial"/>
              </a:rPr>
              <a:t>En $ de noviembre del 2016 por k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0" y="1617840"/>
          <a:ext cx="8610480" cy="45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17840"/>
                    <a:ext cx="861048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4"/>
          <p:cNvSpPr/>
          <p:nvPr/>
        </p:nvSpPr>
        <p:spPr>
          <a:xfrm>
            <a:off x="8382600" y="2666880"/>
            <a:ext cx="8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,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1383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Atraso cambiari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Alto precio en dólares del novill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ída de los valores internacionales de la car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Incrementos salari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Duplicación-Cuadriplicación costo energí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Inf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ompetencia de Brasi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aída de los precios de los subproductos (cuer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Escasez de novillos y vac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Disminución de campos habilitados para U.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Exceso de capacidad instala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838080" y="420840"/>
            <a:ext cx="30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xpor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Exportaciones Argentinas de Carne Vacuna</a:t>
            </a:r>
            <a:br>
              <a:rPr sz="3000"/>
            </a:b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(En miles de tonelada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0"/>
          <p:cNvGraphicFramePr/>
          <p:nvPr/>
        </p:nvGraphicFramePr>
        <p:xfrm>
          <a:off x="152280" y="914400"/>
          <a:ext cx="8839440" cy="467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914400"/>
                    <a:ext cx="8839440" cy="46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76320" y="5562720"/>
          <a:ext cx="8686800" cy="960480"/>
        </p:xfrm>
        <a:graphic>
          <a:graphicData uri="http://schemas.openxmlformats.org/drawingml/2006/table">
            <a:tbl>
              <a:tblPr/>
              <a:tblGrid>
                <a:gridCol w="838080"/>
                <a:gridCol w="609480"/>
                <a:gridCol w="533520"/>
                <a:gridCol w="533520"/>
                <a:gridCol w="609480"/>
                <a:gridCol w="533520"/>
                <a:gridCol w="533160"/>
                <a:gridCol w="609840"/>
                <a:gridCol w="533160"/>
                <a:gridCol w="609840"/>
                <a:gridCol w="533160"/>
                <a:gridCol w="609840"/>
                <a:gridCol w="533160"/>
                <a:gridCol w="533520"/>
                <a:gridCol w="53352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$s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16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16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16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16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16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16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16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16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16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16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16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16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16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16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162e"/>
                    </a:solidFill>
                  </a:tcPr>
                </a:tc>
              </a:tr>
              <a:tr h="3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99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99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99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99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99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99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99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99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99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99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99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99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99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99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09910"/>
                    </a:solidFill>
                  </a:tcPr>
                </a:tc>
              </a:tr>
            </a:tbl>
          </a:graphicData>
        </a:graphic>
      </p:graphicFrame>
      <p:sp>
        <p:nvSpPr>
          <p:cNvPr id="121" name="Text Box 95"/>
          <p:cNvSpPr/>
          <p:nvPr/>
        </p:nvSpPr>
        <p:spPr>
          <a:xfrm>
            <a:off x="61200" y="655308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* Carnes y menudenci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9T14:18:16Z</dcterms:created>
  <dc:creator>.. ..</dc:creator>
  <dc:description/>
  <dc:language>en-US</dc:language>
  <cp:lastModifiedBy>IG</cp:lastModifiedBy>
  <cp:lastPrinted>2016-12-01T12:18:32Z</cp:lastPrinted>
  <dcterms:modified xsi:type="dcterms:W3CDTF">2016-12-01T13:54:18Z</dcterms:modified>
  <cp:revision>1206</cp:revision>
  <dc:subject/>
  <dc:title>Situación actual y perspectivas del mercado de la carne vacuna.</dc:title>
</cp:coreProperties>
</file>